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48500" cy="9436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8800" cy="94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800"/>
            <a:ext cx="3056040" cy="471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2040" y="-1800"/>
            <a:ext cx="3056040" cy="471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962920"/>
            <a:ext cx="3056040" cy="4716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992040" y="8962920"/>
            <a:ext cx="3056040" cy="4716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6DE1A90-8CC9-470F-B3EE-C4A3C3906286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Img"/>
          </p:nvPr>
        </p:nvSpPr>
        <p:spPr>
          <a:xfrm>
            <a:off x="1174320" y="714240"/>
            <a:ext cx="4699080" cy="352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body"/>
          </p:nvPr>
        </p:nvSpPr>
        <p:spPr>
          <a:xfrm>
            <a:off x="939600" y="4479840"/>
            <a:ext cx="5167080" cy="4246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76480" y="714240"/>
            <a:ext cx="4695840" cy="35229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9600" y="4479840"/>
            <a:ext cx="51670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992400" y="8962920"/>
            <a:ext cx="3056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4E6AB9D-4E63-4585-80E6-F4A1350FD04A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76480" y="714240"/>
            <a:ext cx="4695840" cy="35229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39600" y="4479840"/>
            <a:ext cx="51670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992400" y="8962920"/>
            <a:ext cx="3056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835AE70-1196-4B64-AEFC-E4E0FA210927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76480" y="714240"/>
            <a:ext cx="4695840" cy="35229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9600" y="4479840"/>
            <a:ext cx="51670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992400" y="8962920"/>
            <a:ext cx="3056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B4366FD-3A6C-404B-BABB-8C0229343A13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6480" y="714240"/>
            <a:ext cx="4695840" cy="35229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9600" y="4479840"/>
            <a:ext cx="51670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992400" y="8962920"/>
            <a:ext cx="3056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870394C-6761-470D-9E57-B0FF7E48CB7B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152-5086-4868-A057-617C3B62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2446-E574-4E85-B3C1-EB9F389D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AD0-CF9E-4AC4-98E3-779FEB07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9FB-AAB8-4D96-A8DC-D9087F52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4C5-5CCC-4184-B633-7BC0887D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D10-C659-4E6B-A590-8E7203D0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570-0E49-4461-A81C-CC9686B8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89B-C177-40CC-94C5-7BFE60E4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70C9-9694-4FC2-816F-598899CD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5E8-81BD-4FE6-807C-B37FEA42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75F-0B07-4121-AB86-81636549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BA6-58A1-4AE4-BFE3-569DA505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b6e"/>
            </a:gs>
            <a:gs pos="100000">
              <a:srgbClr val="000d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673F-6295-42B9-B273-01CC7F6DAEBB}" type="slidenum"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edwalk_med.avi" descr=""/>
          <p:cNvPicPr/>
          <p:nvPr/>
        </p:nvPicPr>
        <p:blipFill>
          <a:blip r:embed="rId1"/>
          <a:stretch/>
        </p:blipFill>
        <p:spPr>
          <a:xfrm>
            <a:off x="2448000" y="1857240"/>
            <a:ext cx="4152960" cy="1409760"/>
          </a:xfrm>
          <a:prstGeom prst="rect">
            <a:avLst/>
          </a:prstGeom>
          <a:ln w="0">
            <a:noFill/>
          </a:ln>
        </p:spPr>
      </p:pic>
      <p:pic>
        <p:nvPicPr>
          <p:cNvPr id="49" name="sedprofiles_med.avi" descr=""/>
          <p:cNvPicPr/>
          <p:nvPr/>
        </p:nvPicPr>
        <p:blipFill>
          <a:blip r:embed="rId2"/>
          <a:stretch/>
        </p:blipFill>
        <p:spPr>
          <a:xfrm>
            <a:off x="2448000" y="3267000"/>
            <a:ext cx="4152960" cy="14097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395080" y="755640"/>
            <a:ext cx="369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nalytical ultracentrifugation: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iffusion with bias due to centrifugal for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399040" y="5172120"/>
            <a:ext cx="2126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= 0.025; </a:t>
            </a:r>
            <a:r>
              <a:rPr b="0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= 0.000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2676600" y="1847880"/>
            <a:ext cx="3690720" cy="2771640"/>
            <a:chOff x="2676600" y="1847880"/>
            <a:chExt cx="3690720" cy="2771640"/>
          </a:xfrm>
        </p:grpSpPr>
        <p:sp>
          <p:nvSpPr>
            <p:cNvPr id="53" name="Line 7"/>
            <p:cNvSpPr/>
            <p:nvPr/>
          </p:nvSpPr>
          <p:spPr>
            <a:xfrm>
              <a:off x="2676600" y="1847880"/>
              <a:ext cx="0" cy="2771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8"/>
            <p:cNvSpPr/>
            <p:nvPr/>
          </p:nvSpPr>
          <p:spPr>
            <a:xfrm>
              <a:off x="2857320" y="1847880"/>
              <a:ext cx="0" cy="2771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9"/>
            <p:cNvSpPr/>
            <p:nvPr/>
          </p:nvSpPr>
          <p:spPr>
            <a:xfrm>
              <a:off x="3066840" y="1847880"/>
              <a:ext cx="0" cy="2771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>
              <a:off x="3257280" y="1847880"/>
              <a:ext cx="0" cy="2771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5327280" y="1847880"/>
              <a:ext cx="0" cy="2771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3485880" y="1847880"/>
              <a:ext cx="0" cy="2771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3689280" y="1847880"/>
              <a:ext cx="0" cy="2771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14"/>
            <p:cNvSpPr/>
            <p:nvPr/>
          </p:nvSpPr>
          <p:spPr>
            <a:xfrm>
              <a:off x="5522760" y="1847880"/>
              <a:ext cx="0" cy="2771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>
              <a:off x="3906720" y="1847880"/>
              <a:ext cx="0" cy="2771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4095720" y="1847880"/>
              <a:ext cx="0" cy="2771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7"/>
            <p:cNvSpPr/>
            <p:nvPr/>
          </p:nvSpPr>
          <p:spPr>
            <a:xfrm>
              <a:off x="5759280" y="1847880"/>
              <a:ext cx="0" cy="2771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8"/>
            <p:cNvSpPr/>
            <p:nvPr/>
          </p:nvSpPr>
          <p:spPr>
            <a:xfrm>
              <a:off x="4317840" y="1847880"/>
              <a:ext cx="0" cy="2771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4509720" y="1847880"/>
              <a:ext cx="0" cy="2771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4722480" y="1847880"/>
              <a:ext cx="0" cy="2771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949720" y="1847880"/>
              <a:ext cx="0" cy="2771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>
              <a:off x="4927320" y="1847880"/>
              <a:ext cx="0" cy="2771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23"/>
            <p:cNvSpPr/>
            <p:nvPr/>
          </p:nvSpPr>
          <p:spPr>
            <a:xfrm>
              <a:off x="5122800" y="1847880"/>
              <a:ext cx="0" cy="2771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24"/>
            <p:cNvSpPr/>
            <p:nvPr/>
          </p:nvSpPr>
          <p:spPr>
            <a:xfrm>
              <a:off x="6157800" y="1847880"/>
              <a:ext cx="0" cy="2771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6367320" y="1847880"/>
              <a:ext cx="0" cy="2771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Rectangle 26"/>
          <p:cNvSpPr/>
          <p:nvPr/>
        </p:nvSpPr>
        <p:spPr>
          <a:xfrm>
            <a:off x="1274760" y="3579840"/>
            <a:ext cx="1128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#particl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r volum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edwalk_large.avi" descr=""/>
          <p:cNvPicPr/>
          <p:nvPr/>
        </p:nvPicPr>
        <p:blipFill>
          <a:blip r:embed="rId1"/>
          <a:stretch/>
        </p:blipFill>
        <p:spPr>
          <a:xfrm>
            <a:off x="2546280" y="1905120"/>
            <a:ext cx="4143600" cy="1380960"/>
          </a:xfrm>
          <a:prstGeom prst="rect">
            <a:avLst/>
          </a:prstGeom>
          <a:ln w="0">
            <a:noFill/>
          </a:ln>
        </p:spPr>
      </p:pic>
      <p:pic>
        <p:nvPicPr>
          <p:cNvPr id="74" name="sedprofiles_large.avi" descr=""/>
          <p:cNvPicPr/>
          <p:nvPr/>
        </p:nvPicPr>
        <p:blipFill>
          <a:blip r:embed="rId2"/>
          <a:stretch/>
        </p:blipFill>
        <p:spPr>
          <a:xfrm>
            <a:off x="2546280" y="3286080"/>
            <a:ext cx="4143600" cy="1390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349720" y="5181480"/>
            <a:ext cx="5930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simulating larger particle with lower diffusion (</a:t>
            </a:r>
            <a:r>
              <a:rPr b="0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= 0.025; </a:t>
            </a:r>
            <a:r>
              <a:rPr b="0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= 0.0001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2384280" y="765000"/>
            <a:ext cx="4888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random walk with bias, two non-interacting component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334960" y="5181480"/>
            <a:ext cx="427068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500" spc="-1" strike="noStrike">
                <a:solidFill>
                  <a:srgbClr val="ccffff"/>
                </a:solidFill>
                <a:latin typeface="Symbol"/>
                <a:ea typeface="Symbol"/>
              </a:rPr>
              <a:t></a:t>
            </a:r>
            <a:r>
              <a:rPr b="0" lang="en-US" sz="1500" spc="-1" strike="noStrike" baseline="-25000">
                <a:solidFill>
                  <a:srgbClr val="ccffff"/>
                </a:solidFill>
                <a:latin typeface="Symbol"/>
                <a:ea typeface="Symbol"/>
              </a:rPr>
              <a:t></a:t>
            </a:r>
            <a:r>
              <a:rPr b="0" lang="en-US" sz="1500" spc="-1" strike="noStrike">
                <a:solidFill>
                  <a:srgbClr val="ccffff"/>
                </a:solidFill>
                <a:latin typeface="Arial"/>
              </a:rPr>
              <a:t> = 0.01; </a:t>
            </a:r>
            <a:r>
              <a:rPr b="0" lang="en-US" sz="1500" spc="-1" strike="noStrike">
                <a:solidFill>
                  <a:srgbClr val="ccffff"/>
                </a:solidFill>
                <a:latin typeface="Symbol"/>
                <a:ea typeface="Symbol"/>
              </a:rPr>
              <a:t></a:t>
            </a:r>
            <a:r>
              <a:rPr b="0" lang="en-US" sz="1500" spc="-1" strike="noStrike" baseline="-25000">
                <a:solidFill>
                  <a:srgbClr val="ccffff"/>
                </a:solidFill>
                <a:latin typeface="Symbol"/>
                <a:ea typeface="Symbol"/>
              </a:rPr>
              <a:t></a:t>
            </a:r>
            <a:r>
              <a:rPr b="0" lang="en-US" sz="1500" spc="-1" strike="noStrike">
                <a:solidFill>
                  <a:srgbClr val="ccffff"/>
                </a:solidFill>
                <a:latin typeface="Arial"/>
              </a:rPr>
              <a:t> = 0.00005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en-US" sz="1500" spc="-1" strike="noStrike">
                <a:solidFill>
                  <a:srgbClr val="ff99ff"/>
                </a:solidFill>
                <a:latin typeface="Symbol"/>
                <a:ea typeface="Symbol"/>
              </a:rPr>
              <a:t></a:t>
            </a:r>
            <a:r>
              <a:rPr b="0" lang="en-US" sz="1500" spc="-1" strike="noStrike" baseline="-25000">
                <a:solidFill>
                  <a:srgbClr val="ff99ff"/>
                </a:solidFill>
                <a:latin typeface="Symbol"/>
                <a:ea typeface="Symbol"/>
              </a:rPr>
              <a:t></a:t>
            </a:r>
            <a:r>
              <a:rPr b="0" lang="en-US" sz="1500" spc="-1" strike="noStrike">
                <a:solidFill>
                  <a:srgbClr val="ff99ff"/>
                </a:solidFill>
                <a:latin typeface="Arial"/>
              </a:rPr>
              <a:t> = 0.025; </a:t>
            </a:r>
            <a:r>
              <a:rPr b="0" lang="en-US" sz="1500" spc="-1" strike="noStrike">
                <a:solidFill>
                  <a:srgbClr val="ff99ff"/>
                </a:solidFill>
                <a:latin typeface="Symbol"/>
                <a:ea typeface="Symbol"/>
              </a:rPr>
              <a:t></a:t>
            </a:r>
            <a:r>
              <a:rPr b="0" lang="en-US" sz="1500" spc="-1" strike="noStrike" baseline="-25000">
                <a:solidFill>
                  <a:srgbClr val="ff99ff"/>
                </a:solidFill>
                <a:latin typeface="Symbol"/>
                <a:ea typeface="Symbol"/>
              </a:rPr>
              <a:t></a:t>
            </a:r>
            <a:r>
              <a:rPr b="0" lang="en-US" sz="1500" spc="-1" strike="noStrike">
                <a:solidFill>
                  <a:srgbClr val="ff99ff"/>
                </a:solidFill>
                <a:latin typeface="Arial"/>
              </a:rPr>
              <a:t> = 0.0005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sedwalk_2.avi" descr=""/>
          <p:cNvPicPr/>
          <p:nvPr/>
        </p:nvPicPr>
        <p:blipFill>
          <a:blip r:embed="rId1"/>
          <a:stretch/>
        </p:blipFill>
        <p:spPr>
          <a:xfrm>
            <a:off x="2513160" y="1895400"/>
            <a:ext cx="4143240" cy="1381320"/>
          </a:xfrm>
          <a:prstGeom prst="rect">
            <a:avLst/>
          </a:prstGeom>
          <a:ln w="0">
            <a:noFill/>
          </a:ln>
        </p:spPr>
      </p:pic>
      <p:pic>
        <p:nvPicPr>
          <p:cNvPr id="79" name="sedprofiles_2.avi" descr=""/>
          <p:cNvPicPr/>
          <p:nvPr/>
        </p:nvPicPr>
        <p:blipFill>
          <a:blip r:embed="rId2"/>
          <a:stretch/>
        </p:blipFill>
        <p:spPr>
          <a:xfrm>
            <a:off x="2513160" y="3294000"/>
            <a:ext cx="4143240" cy="1390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2504880" y="5802480"/>
            <a:ext cx="346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66"/>
                </a:solidFill>
                <a:latin typeface="Arial"/>
              </a:rPr>
              <a:t>complexes stay in bath of compon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edwalk_small.avi" descr=""/>
          <p:cNvPicPr/>
          <p:nvPr/>
        </p:nvPicPr>
        <p:blipFill>
          <a:blip r:embed="rId1"/>
          <a:stretch/>
        </p:blipFill>
        <p:spPr>
          <a:xfrm>
            <a:off x="2508120" y="1895400"/>
            <a:ext cx="4143600" cy="1381320"/>
          </a:xfrm>
          <a:prstGeom prst="rect">
            <a:avLst/>
          </a:prstGeom>
          <a:ln w="0">
            <a:noFill/>
          </a:ln>
        </p:spPr>
      </p:pic>
      <p:pic>
        <p:nvPicPr>
          <p:cNvPr id="82" name="sedprofiles_small.avi" descr=""/>
          <p:cNvPicPr/>
          <p:nvPr/>
        </p:nvPicPr>
        <p:blipFill>
          <a:blip r:embed="rId2"/>
          <a:stretch/>
        </p:blipFill>
        <p:spPr>
          <a:xfrm>
            <a:off x="2498760" y="3276720"/>
            <a:ext cx="4152960" cy="14097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>
            <a:off x="2381760" y="5181480"/>
            <a:ext cx="4278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simulating smaller particle (</a:t>
            </a:r>
            <a:r>
              <a:rPr b="0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= 0.005; </a:t>
            </a:r>
            <a:r>
              <a:rPr b="0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= 0.001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2387160" y="5764320"/>
            <a:ext cx="433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Equilibrium is described by an exponential:  Boltzmann distribution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2398680" y="755640"/>
            <a:ext cx="2292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pproach to steady-stat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1274760" y="3579840"/>
            <a:ext cx="1128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#particl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r volum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14:03:08Z</dcterms:created>
  <dc:creator>Authorized User</dc:creator>
  <dc:description/>
  <cp:keywords/>
  <dc:language>en-US</dc:language>
  <cp:lastModifiedBy>Schuck, Peter (NIH/NIBIB) </cp:lastModifiedBy>
  <cp:lastPrinted>2002-02-09T01:22:37Z</cp:lastPrinted>
  <dcterms:modified xsi:type="dcterms:W3CDTF">2011-09-30T15:05:54Z</dcterms:modified>
  <cp:revision>0</cp:revision>
  <dc:subject/>
  <dc:title>No Slide Title</dc:title>
</cp:coreProperties>
</file>